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13.png" ContentType="image/png"/>
  <Override PartName="/ppt/media/image5.jpeg" ContentType="image/jpeg"/>
  <Override PartName="/ppt/media/image7.gif" ContentType="image/gif"/>
  <Override PartName="/ppt/media/image12.gif" ContentType="image/gif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BBCC-55EC-4927-BFA6-2BADF9F8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4F40-C3A7-4FAA-9B2A-A74E3D2B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621A-9BE1-4B42-8AC9-3504B359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6C62-996E-41C2-A13A-55BF4912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ADD4-3990-4567-8D1C-BB189094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9B77-260B-48AF-81DD-80A4B7DB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7E82-2A16-4F31-88FB-F82F7DD7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1A3A-B4F5-4E1B-B3F2-34C8DAE5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6CEE-33AB-4867-AE08-D449EE71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1710-E0E9-4EBC-8CB1-B582F408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3ACE-B05E-45C6-8264-9CEA9B31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382-0944-4308-A8FB-72E78183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9BF5-65BD-41C3-9965-D29C46C4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A539-ED29-4B89-8A24-8F4AE9AB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CF27-2603-4D90-ABE8-7D9C7CBE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2F86-69F6-4B05-8C90-922CD4BF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9823-A9C2-486C-BC92-B5B9270F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2E482-7D45-4338-BF7E-58406A33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AC091-1AAB-4AD8-B663-B5B2C601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8161E-9F38-43C7-B0CF-340512C6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932C4-8AC0-43BE-BA93-804B04A3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DF5A8-7A28-41C5-A780-E4945FF5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83A6-2286-412F-B98D-7ED57921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E168C-193D-4E38-8E3C-2B194322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5663E-3E57-4EFD-98FC-C8792CF2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EA273-3FB1-455A-AD85-73650E75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3CA5F-48E9-49C1-921F-1A04B784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CD541-060F-4850-9921-338774B9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8FFDB-1491-4E4E-800B-230603A4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32E8B-76F7-4601-A4C8-D9D1DDBA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6183C-201D-49BA-AAD6-D1BC4170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2158D-03DD-4F35-9E24-EE4D0C75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6207C-69B2-4F73-B967-D8910504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55BE-50D2-4750-9F51-5385F646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D8864-B7BF-4544-AD29-80F797AB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414AA-9CE5-425F-993A-EB4C5560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055E7-230F-424A-918F-66E3D495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6B5BE-D4AB-48F8-80FE-7FB499D8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CF4B0-9118-4395-B61D-29C19169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BBA83-308C-4319-91EB-14D921E8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3D93C-BA5B-4EC2-9258-4783BCA0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53636-1BBD-4419-BDB6-1E2797EB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7B382-39E2-4691-BFB1-9B8CEC45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06A2-BEF6-4DA9-A8DA-CD645BD9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8E31-439C-4F72-A2FF-FAF7FF31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97DC-4F7A-45F3-B66D-705F577F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46E8-71E5-483A-9A6E-7AF030CD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45E6-2E6C-4818-BB26-A8A6E572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FF2A-449F-4DF7-B1E9-CA15509BF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7E6B-3CCC-4976-AEB4-FD6FBA5B1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1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82B3-3CC1-4845-A335-A37B12E57F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8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64AD-7108-4C0C-A811-2D754CCD188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8077320" y="6019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ATOMUL ,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COMPONENTA DE BAZA A MATERIE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04920" y="213372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itatea protonilor din nucleu dau </a:t>
            </a:r>
            <a:r>
              <a:rPr b="0" lang="ro-RO" sz="4000" spc="-1" strike="noStrike">
                <a:solidFill>
                  <a:srgbClr val="cdc635"/>
                </a:solidFill>
                <a:latin typeface="Times New Roman"/>
                <a:ea typeface="Times New Roman"/>
              </a:rPr>
              <a:t>numărul atomic (Z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a numărului de protoni şi de neutroni se numeşte </a:t>
            </a:r>
            <a:r>
              <a:rPr b="0" lang="ro-RO" sz="4000" spc="-1" strike="noStrike">
                <a:solidFill>
                  <a:srgbClr val="cdc635"/>
                </a:solidFill>
                <a:latin typeface="Times New Roman"/>
                <a:ea typeface="Times New Roman"/>
              </a:rPr>
              <a:t>număr de masă (A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ed1539"/>
                </a:solidFill>
                <a:latin typeface="Times New Roman"/>
                <a:ea typeface="Times New Roman"/>
              </a:rPr>
              <a:t>Învelişul electronic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0" lang="ro-RO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În jurul nucleului, într-o zonă cu diametrul de 10000 de ori mai mare decât al nucleului, gravitează particule elementare încărcate cu sarcină electrică negativă, numite </a:t>
            </a:r>
            <a:r>
              <a:rPr b="0" lang="ro-RO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lectroni.</a:t>
            </a:r>
            <a:r>
              <a:rPr b="0" lang="ro-RO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3344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ro-RO" sz="4000" spc="-1" strike="noStrike">
                <a:solidFill>
                  <a:srgbClr val="809ea8"/>
                </a:solidFill>
                <a:latin typeface="Times New Roman"/>
                <a:ea typeface="Times New Roman"/>
              </a:rPr>
              <a:t>Totalitatea electronilor</a:t>
            </a:r>
            <a:r>
              <a:rPr b="1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o-RO" sz="4000" spc="-1" strike="noStrike">
                <a:solidFill>
                  <a:srgbClr val="809ea8"/>
                </a:solidFill>
                <a:latin typeface="Times New Roman"/>
                <a:ea typeface="Times New Roman"/>
              </a:rPr>
              <a:t>care gravitează în jurul nucleului constituie</a:t>
            </a:r>
            <a:r>
              <a:rPr b="1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o-RO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învelişul electronic</a:t>
            </a:r>
            <a:r>
              <a:rPr b="1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o-RO" sz="4000" spc="-1" strike="noStrike">
                <a:solidFill>
                  <a:srgbClr val="809ea8"/>
                </a:solidFill>
                <a:latin typeface="Times New Roman"/>
                <a:ea typeface="Times New Roman"/>
              </a:rPr>
              <a:t>al atomului.</a:t>
            </a:r>
            <a:br>
              <a:rPr sz="4000"/>
            </a:br>
            <a:r>
              <a:rPr b="1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ro-RO" sz="4000" spc="-1" strike="noStrike">
                <a:solidFill>
                  <a:srgbClr val="809ea8"/>
                </a:solidFill>
                <a:latin typeface="Times New Roman"/>
                <a:ea typeface="Times New Roman"/>
              </a:rPr>
              <a:t>Masa electronului este de 10</a:t>
            </a:r>
            <a:r>
              <a:rPr b="1" lang="ro-RO" sz="4000" spc="-1" strike="noStrike" baseline="30000">
                <a:solidFill>
                  <a:srgbClr val="809ea8"/>
                </a:solidFill>
                <a:latin typeface="Times New Roman"/>
                <a:ea typeface="Times New Roman"/>
              </a:rPr>
              <a:t>4</a:t>
            </a:r>
            <a:r>
              <a:rPr b="1" lang="ro-RO" sz="4000" spc="-1" strike="noStrike">
                <a:solidFill>
                  <a:srgbClr val="809ea8"/>
                </a:solidFill>
                <a:latin typeface="Times New Roman"/>
                <a:ea typeface="Times New Roman"/>
              </a:rPr>
              <a:t> ori mai mică decât masa protonului şi se neglijează de la calculul masei atomice.</a:t>
            </a:r>
            <a:br>
              <a:rPr sz="4000"/>
            </a:br>
            <a:r>
              <a:rPr b="1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ro-RO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umărul electronilor este egal cu numărul protonilor,</a:t>
            </a:r>
            <a:r>
              <a:rPr b="1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o-RO" sz="4000" spc="-1" strike="noStrike">
                <a:solidFill>
                  <a:srgbClr val="809ea8"/>
                </a:solidFill>
                <a:latin typeface="Times New Roman"/>
                <a:ea typeface="Times New Roman"/>
              </a:rPr>
              <a:t>sarcina electrică totală a atomului este zero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rcRect l="0" t="0" r="0" b="22300"/>
          <a:stretch/>
        </p:blipFill>
        <p:spPr>
          <a:xfrm>
            <a:off x="0" y="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0" y="350532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 este categoria care desemnează validitatea obiectivă existentă independent de conştiinţă şi reflectată de aceas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ele de manifestare ale materiei sunt mişcarea, spaţiul şi timpu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171440" y="0"/>
            <a:ext cx="680112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85440" y="9140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o-RO" sz="4000" spc="-1" strike="noStrike">
                <a:solidFill>
                  <a:srgbClr val="809ea8"/>
                </a:solidFill>
                <a:latin typeface="Times New Roman"/>
                <a:ea typeface="Times New Roman"/>
              </a:rPr>
              <a:t>Noţiunea de </a:t>
            </a:r>
            <a:r>
              <a:rPr b="1" lang="ro-RO" sz="4000" spc="-1" strike="noStrike">
                <a:solidFill>
                  <a:srgbClr val="e2c86a"/>
                </a:solidFill>
                <a:latin typeface="Times New Roman"/>
                <a:ea typeface="Times New Roman"/>
              </a:rPr>
              <a:t>atom</a:t>
            </a:r>
            <a:r>
              <a:rPr b="1" lang="ro-RO" sz="4000" spc="-1" strike="noStrike">
                <a:solidFill>
                  <a:srgbClr val="809ea8"/>
                </a:solidFill>
                <a:latin typeface="Times New Roman"/>
                <a:ea typeface="Times New Roman"/>
              </a:rPr>
              <a:t> stă la baza înţelegerii noţiunilor chimice, fapt pentru care este foarte important să se ştie că materia este alcătuită din particule invizibile şi indivizibile - atomii (atomos = indivizibil)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809ea8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80880" y="525780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omul are dimensiuni deosebit de mic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loarea razei atomice este de ordinul 10</a:t>
            </a:r>
            <a:r>
              <a:rPr b="0" lang="ro-RO" sz="3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0</a:t>
            </a:r>
            <a:r>
              <a:rPr b="0" lang="ro-RO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iar cea a masei d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</a:t>
            </a:r>
            <a:r>
              <a:rPr b="0" lang="ro-RO" sz="3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27</a:t>
            </a:r>
            <a:r>
              <a:rPr b="0" lang="ro-RO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acă desenăm cu creionul un punct fără a-l îngroşa, în interiorul lui se află 3x10</a:t>
            </a:r>
            <a:r>
              <a:rPr b="0" lang="ro-RO" sz="3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18</a:t>
            </a:r>
            <a:r>
              <a:rPr b="0" lang="ro-RO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tomi!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438280" y="152280"/>
            <a:ext cx="6705720" cy="67057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1600200" cy="12002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dc635"/>
                </a:solidFill>
                <a:latin typeface="Times New Roman"/>
                <a:ea typeface="Times New Roman"/>
              </a:rPr>
              <a:t>	</a:t>
            </a:r>
            <a:r>
              <a:rPr b="1" lang="ro-RO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portul dintre volumul unei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ngi de tenis şi al unui atom este acelaşi cu raportul dintre volumul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ământului şi cel al mingii d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ni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5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omul este un edificiu complex, fiind alcatuit din</a:t>
            </a:r>
            <a:r>
              <a:rPr b="1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66ff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cleu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66ff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Înveliş electronic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495680" y="228600"/>
            <a:ext cx="46483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dc635"/>
                </a:solidFill>
                <a:latin typeface="Bookman Old Style"/>
              </a:rPr>
              <a:t>	</a:t>
            </a:r>
            <a:r>
              <a:rPr b="1" lang="ro-RO" sz="4000" spc="-1" strike="noStrike">
                <a:solidFill>
                  <a:srgbClr val="cdc635"/>
                </a:solidFill>
                <a:latin typeface="Times New Roman"/>
                <a:ea typeface="Times New Roman"/>
              </a:rPr>
              <a:t>În centrul atomului se află </a:t>
            </a:r>
            <a:r>
              <a:rPr b="1" lang="ro-RO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ucleul</a:t>
            </a:r>
            <a:r>
              <a:rPr b="1" lang="ro-RO" sz="4000" spc="-1" strike="noStrike">
                <a:solidFill>
                  <a:srgbClr val="cdc635"/>
                </a:solidFill>
                <a:latin typeface="Times New Roman"/>
                <a:ea typeface="Times New Roman"/>
              </a:rPr>
              <a:t>, iar în spaţiul învecina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dc635"/>
                </a:solidFill>
                <a:latin typeface="Times New Roman"/>
                <a:ea typeface="Times New Roman"/>
              </a:rPr>
              <a:t>(învelişul electronic) electronii gravitează în jurul nucleulu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dc635"/>
                </a:solidFill>
                <a:latin typeface="Times New Roman"/>
                <a:ea typeface="Times New Roman"/>
              </a:rPr>
              <a:t>(ca şi planetele în jurul Soarelui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2280" y="228600"/>
            <a:ext cx="8991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ed1539"/>
                </a:solidFill>
                <a:latin typeface="Times New Roman"/>
                <a:ea typeface="Times New Roman"/>
              </a:rPr>
              <a:t>Nucleul</a:t>
            </a:r>
            <a:r>
              <a:rPr b="0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zintă o stabilitate mare şi nu se modifică în timpul proceselor  chimi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cleul conţine particule elementare numite nucleoni (protoni şi neutroni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rcRect l="0" t="0" r="52962" b="0"/>
          <a:stretch/>
        </p:blipFill>
        <p:spPr>
          <a:xfrm>
            <a:off x="1492200" y="3429000"/>
            <a:ext cx="2416320" cy="3124080"/>
          </a:xfrm>
          <a:prstGeom prst="rect">
            <a:avLst/>
          </a:prstGeom>
          <a:ln w="9360">
            <a:solidFill>
              <a:srgbClr val="99ff99"/>
            </a:solidFill>
            <a:miter/>
          </a:ln>
        </p:spPr>
      </p:pic>
      <p:sp>
        <p:nvSpPr>
          <p:cNvPr id="385" name=""/>
          <p:cNvSpPr/>
          <p:nvPr/>
        </p:nvSpPr>
        <p:spPr>
          <a:xfrm>
            <a:off x="4572000" y="3352680"/>
            <a:ext cx="34290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o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" descr="The nucleus of a nitrogen atom."/>
          <p:cNvPicPr/>
          <p:nvPr/>
        </p:nvPicPr>
        <p:blipFill>
          <a:blip r:embed="rId2"/>
          <a:stretch/>
        </p:blipFill>
        <p:spPr>
          <a:xfrm>
            <a:off x="5029200" y="3505320"/>
            <a:ext cx="2514600" cy="2485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962520" y="46483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py</cp:lastModifiedBy>
  <dcterms:modified xsi:type="dcterms:W3CDTF">2009-09-21T14:53:25Z</dcterms:modified>
  <cp:revision>1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